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DB9-B8DE-492B-AF00-F50535B5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0E5-0753-44A2-8747-CE7569A5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FDE-5569-4C79-9F79-390E516B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378-A264-4DD0-8256-5C1DBB1A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E48-6D3E-446C-B15E-9B8DAB11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A35-BEBC-4D01-B718-1F506B16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D9F-959E-42E2-B889-0E393AF4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8DDF-4601-4D5E-8DB5-F925CDAA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8B2-2786-40E6-B8CE-D14BED87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32F-01CF-4C18-8399-32CD273C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AA0-32B6-4711-ADB2-B6FE788D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395A-2148-4DCA-A7BC-92CF5A5D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66cc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36F0-B230-4A37-AD60-5CD75E4CDA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lict and Consensus in the American Revol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mund S. Mo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ccffff"/>
              </a:buClr>
              <a:buFont typeface="Arial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vents Leading to Revolution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onists knew that them owning their own land to bid defiance of traditionally controlled society through controls of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gland failed to recognize these two powers (see people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ccffff"/>
              </a:buClr>
              <a:buFont typeface="Arial"/>
              <a:buAutoNum type="roman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servatis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these arguments today seem ludicrous, it is because conservatism in the United States has often been reduced to the ludicrous by the national commitment to equal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conservatism based on a more congenial premise can make little head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ccffff"/>
              </a:buClr>
              <a:buFont typeface="Arial"/>
              <a:buAutoNum type="romanU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3818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ericans and people without black skin had two sources of pow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land gave them political and economic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guns gave them fire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people owned land they lived on and had a large number of gu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cial status counted for more than senior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ccffff"/>
              </a:buClr>
              <a:buFont typeface="Arial"/>
              <a:buAutoNum type="romanU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axation by Parlia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eat to power that enabled them to the right to direct their own liv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ensus enabled the colonies to unite against Parliamentary tax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esmen failed to recognized America’s existence and of their pow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ank you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or watching our slide show !!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esented By: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indy Pierre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hley Lockwood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elinda O’Bie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Johnny Thompson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obby Donvan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                  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ccfff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cial Mobi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erican Revolution increased social mobil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creasing and decreasing in social r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ass conflict was muted during the revolutionary period by social mobility among whi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ccffff"/>
              </a:buClr>
              <a:buFont typeface="Arial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pulation increased so rapidly it could not be controlled by the mother count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cial conflicts arose from over crowd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ccffff"/>
              </a:buClr>
              <a:buFont typeface="Arial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lavery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adical consensus … was shaken but not broken by the Revolution.” - Morg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ccffff"/>
              </a:buClr>
              <a:buFont typeface="Arial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ternal Conflic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flict between the East and We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erican Revolution – settlers in a new land against its government that could not properly tend to their needs because of location and com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xation without Re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al conflict between northern and southern colonies by enslavement of blacks and loyalis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04:39:23Z</dcterms:created>
  <dc:creator>charles st louis</dc:creator>
  <dc:description/>
  <dc:language>en-US</dc:language>
  <cp:lastModifiedBy>Jenkins, Mark</cp:lastModifiedBy>
  <dcterms:modified xsi:type="dcterms:W3CDTF">2012-02-07T16:03:25Z</dcterms:modified>
  <cp:revision>3</cp:revision>
  <dc:subject/>
  <dc:title>Conflict and Consensus in the American Revolution</dc:title>
</cp:coreProperties>
</file>